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3055-5DD4-42CF-B1E5-239CEDD93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5107-41E7-4958-8ECC-18E41927A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CBEB-7B87-4816-A680-53F38DE9E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85B8-C1BD-4FC0-8329-415D40EDD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4CA4-1AFE-4DAD-8730-9EF56A8B1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330D-3537-43C3-AC7D-35A611D20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E40A-F98A-4C6A-9AEF-BCCDCEF4B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DCBD-CCC1-4529-BC7A-9A3D1978A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324E-061A-4044-99F1-FFE50D2D9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F230-7141-435F-87D2-A2BA11987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D6BA-626A-456E-A501-3A4C26B0D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BA31-1C1C-4B40-8395-C7C96CCFC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57583-DE8D-44E9-9C26-624C314A21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280" y="1052280"/>
            <a:ext cx="799308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Видовой состав обитателей аквариума в зависимости от возраста детей (программа). Паспорта 5-ти аквариумных рыбкам (гуппи, меченосец, барбус, сомик, любая разновидность золотой рыбки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84360" y="458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Выполни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Герасимова Ма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рограмма Марковская «Уголок природы в детском саду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II </a:t>
            </a:r>
            <a:r>
              <a:rPr b="1" lang="ru-RU" sz="2800" spc="-1" strike="noStrike" u="sng">
                <a:solidFill>
                  <a:srgbClr val="0000ff"/>
                </a:solidFill>
                <a:uFillTx/>
                <a:latin typeface="Arial"/>
              </a:rPr>
              <a:t>младшая группа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.: Золотая рыбка, кара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ff"/>
                </a:solidFill>
                <a:uFillTx/>
                <a:latin typeface="Arial"/>
              </a:rPr>
              <a:t>Средняя группа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.: разновидности золотой рыбки (кроме вуалехвоста и телескоп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ff"/>
                </a:solidFill>
                <a:uFillTx/>
                <a:latin typeface="Arial"/>
              </a:rPr>
              <a:t>Старшая группа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.: разновидности золотой рыбки-вуалехвост, телескоп, монет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ff"/>
                </a:solidFill>
                <a:uFillTx/>
                <a:latin typeface="Arial"/>
              </a:rPr>
              <a:t>Подготовительная группа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.: тепловодные рыбы (живородящие, лабиринтовы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Гупп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Продолжительность жизни: 3-4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Размер: 3-8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Температура воды: 18-30С (лучше 23-2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Совместимость: мир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Способ размножения: живородящ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932360" y="4076640"/>
            <a:ext cx="3745080" cy="26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Arial"/>
              </a:rPr>
              <a:t>Меченосе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Продолжительность жизн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Размер: 6-12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Температура воды: 22-26С (хорошо переносит понижение до 15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Совместимос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Способ размножения: живородящ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219640" y="4508640"/>
            <a:ext cx="343368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мик золотист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Продолжительность жизни: 2-3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Размер: 6-7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Температура воды: 23-28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Совместимость: мир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Способ размножения: икромечущ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292720" y="4437000"/>
            <a:ext cx="3451320" cy="23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арбус солнеч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Продолжительность жизни: 3-5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Размер: 3-5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Температура воды: 18-22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Совместимость: мир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Способ размножения: икромечущ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508720" y="4497480"/>
            <a:ext cx="2841480" cy="20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6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9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2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5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8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Телескоп крас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Продолжительность жизн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Размер: до 25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Температура воды: 15-30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Совместимость: мир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Способ размножения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508720" y="4581360"/>
            <a:ext cx="2981160" cy="20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0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3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6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9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2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СПАСИБО ЗА ВНИМАНИЕ!!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9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0T17:36:36Z</dcterms:created>
  <dc:creator>User</dc:creator>
  <dc:description/>
  <dc:language>en-US</dc:language>
  <cp:lastModifiedBy>User</cp:lastModifiedBy>
  <dcterms:modified xsi:type="dcterms:W3CDTF">2010-05-21T16:13:26Z</dcterms:modified>
  <cp:revision>8</cp:revision>
  <dc:subject/>
  <dc:title>Видовой состав обитателей аквариума в зависимости от возраста детей (программа). Паспорта 5-ти аквариумных рыбкам (гуппи, меченосец, барбус, сомик, любая разновидность золотой рыбки) </dc:title>
</cp:coreProperties>
</file>